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00E-25C1-4455-9D2E-5B82AEDA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1B2-4E87-4F3E-B540-B2861C2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8D0-D545-40A2-BE5A-7C7BEADC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3C6-F1F2-43D8-82FF-BBC4FAC7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346-0176-42B9-A364-D10ED73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B3D-ED70-4DCA-9BE6-0D7B7A3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406-C674-4F2F-83F4-4E50722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1E2-9539-41CF-9BDC-2A389525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D39-48F0-467E-8CF8-7520984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03B-42C6-4E8C-BCBA-F0C263C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C34-A5CA-4D59-BA41-215F0ABE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294-1333-4AE9-AB30-8C786E8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388F-6081-4210-9944-A2CE8597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 llamo _________ Clase 6 N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fecha es el 12 de octubre del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opósito # 9: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dividen las vocales fuertes e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vide las palabras en silabas y encierra el dipto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i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 Ci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u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Tru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asar la hoja de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area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Repaso de la Tarea #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ray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 dipton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Fu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g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ani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Ciudad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c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N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  Estudio            15.  Paqu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295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288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8288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36232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243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09680" y="297180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048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581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6576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6576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419112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2670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4191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90920" y="4724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8006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7920" y="533412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334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334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980720" y="59436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295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295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8288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1905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05520" y="24382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43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120" y="29718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3048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3048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05520" y="3581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81480" y="419112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4191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105520" y="4724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8769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8769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15000" y="533412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048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29718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l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ando las vocales fuertes </a:t>
            </a:r>
            <a:r>
              <a:rPr b="0" lang="es-ES_tradnl" sz="3200" spc="-1" strike="noStrike" u="sng">
                <a:solidFill>
                  <a:srgbClr val="333399"/>
                </a:solidFill>
                <a:uFillTx/>
                <a:latin typeface="Arial"/>
              </a:rPr>
              <a:t>(a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s-ES_tradnl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s-ES_tradnl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) se encuentran juntas, no forman diptongo y estan en diferentes silab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When the strong vowels [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] are together, they do not form diphthongs and are therefore in different syllab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  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  d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ta  r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Po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514600"/>
            <a:ext cx="41148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nemig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ntas no quieren 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¡Las tienes que apart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514600"/>
            <a:ext cx="472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y are enem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gether they cannot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parate them. Let them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vide las siguientes palabras en silabas. Pronuncia cada palabra en voz a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o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 Barba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atr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. 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08080" y="182880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438280" y="5648400"/>
            <a:ext cx="1000080" cy="120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315200" y="1828800"/>
            <a:ext cx="10825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286680" y="32860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324480" y="4495680"/>
            <a:ext cx="1084320" cy="1600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199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la hoj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4:22Z</dcterms:created>
  <dc:creator>Helen Zumaeta</dc:creator>
  <dc:description/>
  <dc:language>en-US</dc:language>
  <cp:lastModifiedBy>Helen Zumaeta</cp:lastModifiedBy>
  <dcterms:modified xsi:type="dcterms:W3CDTF">2011-10-12T13:48:02Z</dcterms:modified>
  <cp:revision>23</cp:revision>
  <dc:subject/>
  <dc:title>Me llamo _________ Clase 6 IM La fecha es el 4 de diciembre del 2009</dc:title>
</cp:coreProperties>
</file>